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045-A563-4C8F-8F03-5141699A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BDD-49A7-42AB-A49C-28D74E5C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D0FE6-7249-436D-9BC2-3DB3165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6DF70-457A-42EB-8BEA-14687402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14FF5-7414-42C1-877D-BBBB1E0E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11F7-65FE-477F-BD87-F272C35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6F50E-CE82-431D-A59A-602DCEE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B69DB-BAAB-4ED3-BF2E-A14AAEF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112E-DEE4-4A83-8C5F-6DB53A2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CD5A7-18C9-480E-ACC0-AE495A55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CC1FC-D2C7-4CCC-AAE1-D7B77C31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F101C-330B-4923-9CCB-41918F00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36D-0C6C-4A91-9484-78FF619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73583-D866-4859-A22C-9E623943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90FF-F1FC-470F-9FED-219AF13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F1731-C48C-47C1-AF62-03A0B265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FF10A-7B0B-4B05-9EB9-9399921E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558ED-C6C5-4B0B-A931-C05F1BE1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6A852-4934-43B8-A93D-D206EE9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9A1D4-05E4-4909-B0AF-1795B44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3B203-5919-476F-B8CD-7A819CB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E9969-8501-4EEB-AA33-5DA55DA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E8669-BCC8-481F-ACFC-4D5CAC2E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64F-7E38-40BD-8865-011675B6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4BFC3-6140-45A2-96E5-7D15C809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81152-BBA5-4077-A935-DD6AB19E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5A8F0-E345-441F-B114-348BA7E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30D7D-B96F-42FC-97C7-C533B54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86409-6796-409A-9A27-BC10177D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DD76-FD90-4BB1-A0AA-6B93F55F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AA175-B6C0-4FD6-844E-DC30308C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60FB-D486-4DA6-AAB7-96EBB52A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EF45-BEC2-4078-BDD1-E20E7A08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2C2C-7948-49DC-BAEC-3AF8FD6B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6D2-161F-4EA3-A781-FEBE139C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1FCAA-112B-459E-812C-BFCED619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0FC62-4A29-40A5-9B1C-9AAAF48E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9DEC-9702-4655-9E2F-1E0E029E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D25C9-2BBF-433C-AAC0-C03F726F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5E9E5-04E6-4551-B837-8D4D2E2B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120AC-2919-4EA9-A29D-8D239F4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4EC8C-50C5-4F0F-A2B4-AF19E44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1075E-4C5C-4B40-A06D-CC19225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6C10E-234E-4CA7-9B9D-9D2C838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6A045-EB54-4ABF-9F9D-1B76FDE2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DF06-40FF-40FF-A5E9-8643A862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DDC84-C0A6-4493-8419-3C758A9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1760C-F178-4D90-A54E-F66B4F0C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FA949-9869-4942-AF0B-BED287D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6E753-456E-475E-9730-ED25D1BB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A06FC-4009-4979-BCB8-A02860EC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0A0-EA97-4853-AFCC-1A376E2F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4FFC-940A-4448-B462-2D87902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127-9556-4728-B3E3-36AD0E26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A6ED-AC0D-4312-8E74-D217063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E519-9B8C-46C2-B587-5A68EE7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971-1D6A-40FB-BEC9-04E72540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FBD-8DE6-4886-8D58-951178E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E5F6-9DBB-4B4F-951D-1F82593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BC91-623F-422D-B839-A135DE93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D92B-9426-4B11-BA9C-A90F0B98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0CA-25C0-48BB-8DF8-78D26E95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4B14-C327-4C07-B608-E153AFF2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7EFC-FEFE-4281-AC3E-6B5B81D8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8E47-6EEF-444B-B84C-9347BDA0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8D43-343E-4123-810F-E43CCA8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F950-83E3-43C7-8004-6587720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F2A-2E5D-4EF7-85C6-405F6ED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1B45-FC13-482F-A9CD-2D35C96E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FAA3-CD8D-4C3A-9440-813AEAA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1A75-3EF2-4CE4-9DEA-DD56C58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F5FF-2B1C-464D-93E5-B3C8C31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1091-7F21-45A8-9191-037D82C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5677-2760-4D79-8702-163E016A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9533-7BA3-4437-BD78-E0B3E20E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4604-31CF-47AF-B859-F5E83B69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365B-9391-47A0-ADAE-4A5522C5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3069-69EF-49A7-B4E9-92BCFE8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58D-51A5-405E-A36B-695DE7F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5E89-0045-4182-9300-A471FBD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1C4E-5BB8-484D-9A36-C0609B1E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69E1-9D3C-41AE-8278-5D296E7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BF36-B458-4E3E-A65D-1567FC1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8886-B13B-411B-AD0E-B1C90D0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5961-06C2-4A6C-9BCC-1AB5993C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C518-7678-41D1-9210-0BCAFE6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81C3C-4139-445F-8338-F6BB4534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4ABF-B581-463B-948D-BD229559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0A7DA-DE09-42C5-A165-79A8BFE0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D63-43D0-4BFF-95CB-349987B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FDEA-DB42-4378-89F2-332F17F1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A557-415D-4B94-AF24-EE825471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EC8D6-8EA7-4FAF-99EB-398E8F0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430A-6A95-4B85-9464-17383E7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1795-27AB-48A3-A42C-7B0DCF68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7253-A1FF-4379-88C9-217148C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DC05-1825-446E-8471-AD64EB3B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1879-191C-4647-A7C5-613ABB8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FDAF-8164-4355-8C38-CDED3AC9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F36A-500C-4928-97C9-1D0DD6AC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45C-9312-4D85-990F-F8731AE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6848-FBEC-47CE-9099-EE8C7E22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29D9-39F4-4256-BF70-2CF34F12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B16B-AF49-49C1-B4B2-ECC06CF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207B-7B6D-4ABC-885E-3B5AE0E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A0697-81B5-47ED-B766-709B3BC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5D31-8FA3-4462-ABE7-503999C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23A0-23A2-4DCC-80FF-D91BEA9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ED03D-1565-4A81-9066-3009913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D646-04E0-40A1-A941-F50C774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BFED-349F-431B-9DB6-A5096F9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43F-1D6A-481F-8A89-72F69E9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33D9-2A08-4E13-BD60-7CB223B8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D638-1419-49AC-82CE-F3AC1555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5ACFE-562D-4BF6-A8AF-D1FDA055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C1D5D-4DEE-4438-BE6E-BFBD972A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4754-AE05-4C7E-A814-664D229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14D27-F869-4511-A9FF-67CBB12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9DA9D-3C69-4E35-914D-49D2CB01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FC44E-8153-437A-9864-620C0A1D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9C60A-74ED-45B6-A872-5C598893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AEED-AAED-4655-816D-E368536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405-1AD0-454A-8656-6FE96D9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98D3-2626-4F43-8421-0BB59DC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49CC-367B-4505-9796-7FB1671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C43B-5481-49D0-808B-089B906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B090-3128-4B76-BA1B-0916EFAA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7EEF-7F87-474E-849A-4BD82551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3BDA-5D39-4F56-8814-45C13D2E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2C05B-337F-4056-812B-0D8448A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37C69-94CF-4242-A3B2-F2466FB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13C8-2C90-4589-9DCE-DCBBB46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65163-3BDD-49F8-8FC9-C463353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2E9-9739-4052-862D-846A728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76A77-E6F3-4D2B-B5B7-B07F072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1ADF-A327-463E-B3BA-0473CD1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9FE9-FC23-447E-BF85-641BE7E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4CED-F51A-4AA4-94CB-B7F5C24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5D71D-BC2A-4E70-BEB4-DC037167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90B67-BEE8-4034-8437-4B79897D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7823-2B76-41A1-8D79-78810F30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1599-5C47-4279-8924-35C8662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B506-A520-402A-AE11-4FFEB75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9AED-DA93-48C6-B5F8-F95FADE2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032-0465-4203-BD82-0A03A7F8504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20A-6353-4785-B9BE-1F72D813D5A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3D74-15A1-4C11-BF52-F026AC1861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E78-5466-4AF2-ACD5-116E3A803E5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C5A2-EBE6-400A-BA7E-40BAFB8C86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83A-711E-4611-B8BA-107F09905A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975F-1365-470F-B48B-59470859EA6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407-38A0-4DFF-9572-B7BCDAD64D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5DFE-865D-4D99-897F-7FCE845605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E6A4-CD9A-4F0B-895C-DB7C5CD08F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8691-3631-428E-838D-B04F79B9BB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7D3-FFF4-4019-84A8-031EEAC046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Kako određujemo gustoć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8096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Gustoće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rcRect l="0" t="0" r="0" b="44917"/>
          <a:stretch/>
        </p:blipFill>
        <p:spPr>
          <a:xfrm>
            <a:off x="1447920" y="1447920"/>
            <a:ext cx="2438280" cy="4800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"/>
          <p:cNvPicPr/>
          <p:nvPr/>
        </p:nvPicPr>
        <p:blipFill>
          <a:blip r:embed="rId2"/>
          <a:srcRect l="0" t="55087" r="0" b="0"/>
          <a:stretch/>
        </p:blipFill>
        <p:spPr>
          <a:xfrm>
            <a:off x="4952880" y="2133720"/>
            <a:ext cx="2238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4"/>
          <p:cNvSpPr/>
          <p:nvPr/>
        </p:nvSpPr>
        <p:spPr>
          <a:xfrm>
            <a:off x="1475640" y="129528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ko odrediti gustoću kamen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901080" y="4500720"/>
            <a:ext cx="740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jeriti masu kamen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 vag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jeriti volumena kamen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menzura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ti kvocijent mase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 volume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373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3434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   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Gustoća tekući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5" descr="areometar i termometar"/>
          <p:cNvPicPr/>
          <p:nvPr/>
        </p:nvPicPr>
        <p:blipFill>
          <a:blip r:embed="rId1"/>
          <a:stretch/>
        </p:blipFill>
        <p:spPr>
          <a:xfrm>
            <a:off x="1143000" y="1143000"/>
            <a:ext cx="1854360" cy="43308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"/>
          <p:cNvSpPr/>
          <p:nvPr/>
        </p:nvSpPr>
        <p:spPr>
          <a:xfrm>
            <a:off x="3805200" y="5715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livanje leda na 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7" descr="voda_water_casa_shutter"/>
          <p:cNvPicPr/>
          <p:nvPr/>
        </p:nvPicPr>
        <p:blipFill>
          <a:blip r:embed="rId2"/>
          <a:stretch/>
        </p:blipFill>
        <p:spPr>
          <a:xfrm>
            <a:off x="3733920" y="2819520"/>
            <a:ext cx="4047840" cy="2619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44120" y="5672160"/>
            <a:ext cx="167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reometri za mjer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ustoće tekuć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-110520" y="1981080"/>
            <a:ext cx="91940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gustoća? Kako označujemo gustoć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mjerne jedinic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ris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a gustoć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znači kada kažemo da tijelo ima gustoću 270kg/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kockice leda ne tonu u čaši s vodom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zaključuješ o odnosu gustoće leda i v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.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tvori: a) 13,6 g/cm³ u kg/m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)  7 800 kg/m³ u g/cm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   Kolika je gustoća kockice led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5 cm³ i mase 4,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09480" y="18288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lakše plivati u moru nego u jezeru ili rije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ulje pliva na vod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neka tijela tonu, a neka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17589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304920" y="1447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gustoća tij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743200" cy="270036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380880" y="5105520"/>
            <a:ext cx="12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V₁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m₁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,6</a:t>
            </a: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oc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2066040" y="5105520"/>
            <a:ext cx="12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V₂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m₂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kvadar </a:t>
            </a: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4208040" y="2743200"/>
            <a:ext cx="47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redimo kvocijent mase i volu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5562720" y="3733920"/>
                <a:ext cx="16920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7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6" name="Slika 8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Gustoća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533520" y="1676520"/>
            <a:ext cx="8001000" cy="28371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vocijent mase i volumena za svako tijelo načinj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iste tvari ima jednaku vrij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stoća je svojstvo tvari od koje je tijelo načinj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7"/>
          <p:cNvGrpSpPr/>
          <p:nvPr/>
        </p:nvGrpSpPr>
        <p:grpSpPr>
          <a:xfrm>
            <a:off x="547920" y="1219320"/>
            <a:ext cx="2730240" cy="2593440"/>
            <a:chOff x="547920" y="1219320"/>
            <a:chExt cx="2730240" cy="2593440"/>
          </a:xfrm>
        </p:grpSpPr>
        <mc:AlternateContent>
          <mc:Choice xmlns:a14="http://schemas.microsoft.com/office/drawing/2010/main" Requires="a14">
            <p:sp>
              <p:nvSpPr>
                <p:cNvPr id="530" name="Object 2"/>
                <p:cNvSpPr txBox="1"/>
                <p:nvPr/>
              </p:nvSpPr>
              <p:spPr>
                <a:xfrm>
                  <a:off x="990720" y="1219320"/>
                  <a:ext cx="2000160" cy="17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TextBox 6"/>
            <p:cNvSpPr/>
            <p:nvPr/>
          </p:nvSpPr>
          <p:spPr>
            <a:xfrm>
              <a:off x="547920" y="3048480"/>
              <a:ext cx="273024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znaka za gustoću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čko slovo  </a:t>
              </a: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ρ</a:t>
              </a:r>
              <a:r>
                <a:rPr b="0" lang="hr-H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 ro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9"/>
          <p:cNvSpPr/>
          <p:nvPr/>
        </p:nvSpPr>
        <p:spPr>
          <a:xfrm>
            <a:off x="787320" y="4495680"/>
            <a:ext cx="553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 j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dinic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gusto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g / m³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kilogram po k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 / cm³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gram po k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ntime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4829040" y="2514600"/>
            <a:ext cx="36295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1 g / cm³ = 1000 kg / m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2"/>
          <p:cNvSpPr/>
          <p:nvPr/>
        </p:nvSpPr>
        <p:spPr>
          <a:xfrm>
            <a:off x="573840" y="1828800"/>
            <a:ext cx="8292960" cy="11912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masa vod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L ako znamo da je gusto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de 1 000 kg/m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ontent Placeholder 2"/>
          <p:cNvSpPr/>
          <p:nvPr/>
        </p:nvSpPr>
        <p:spPr>
          <a:xfrm>
            <a:off x="990720" y="3352680"/>
            <a:ext cx="7186320" cy="20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1 L = 1 dm³ = 0, 001 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000 kg /m³· 0,001 m³ = 1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ujam vode od 1 L ima masu 1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Slika 1" descr=""/>
          <p:cNvPicPr/>
          <p:nvPr/>
        </p:nvPicPr>
        <p:blipFill>
          <a:blip r:embed="rId1"/>
          <a:stretch/>
        </p:blipFill>
        <p:spPr>
          <a:xfrm>
            <a:off x="534960" y="1278000"/>
            <a:ext cx="10159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30492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odnose mase dvaju tijela različitih gustoća,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dnkih obujmo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609480" y="4800600"/>
            <a:ext cx="77724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dva tijela jednakih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eću masu ima    ono veće gusto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082600"/>
          </a:xfrm>
          <a:prstGeom prst="rect">
            <a:avLst/>
          </a:prstGeom>
          <a:ln w="0">
            <a:noFill/>
          </a:ln>
        </p:spPr>
      </p:pic>
      <p:pic>
        <p:nvPicPr>
          <p:cNvPr id="540" name="Slika 5" descr=""/>
          <p:cNvPicPr/>
          <p:nvPr/>
        </p:nvPicPr>
        <p:blipFill>
          <a:blip r:embed="rId2"/>
          <a:stretch/>
        </p:blipFill>
        <p:spPr>
          <a:xfrm>
            <a:off x="457200" y="86832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30492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odnose obujmovi dvaju tijela različitih gustoća, a jednakih ma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609480" y="4800600"/>
            <a:ext cx="77724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dva tijela jednakih masa, veći obujam  ima tijelo  manje  gusto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724120" cy="2094120"/>
          </a:xfrm>
          <a:prstGeom prst="rect">
            <a:avLst/>
          </a:prstGeom>
          <a:ln w="0">
            <a:noFill/>
          </a:ln>
        </p:spPr>
      </p:pic>
      <p:pic>
        <p:nvPicPr>
          <p:cNvPr id="544" name="Slika 5" descr=""/>
          <p:cNvPicPr/>
          <p:nvPr/>
        </p:nvPicPr>
        <p:blipFill>
          <a:blip r:embed="rId2"/>
          <a:stretch/>
        </p:blipFill>
        <p:spPr>
          <a:xfrm>
            <a:off x="457200" y="82872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324"/>
                </a:solidFill>
                <a:latin typeface="Arial"/>
                <a:ea typeface="Arial"/>
              </a:rPr>
              <a:t>Zašto neka tijela tonu, a druga 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44440" y="4724280"/>
            <a:ext cx="856584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jelo pliva ako je njegova gustoća manja od gustoće tekuć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jelo tone na dno ako je njegova gustoća veća od gustoće tekuć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210040" cy="26672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20574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6:08Z</dcterms:modified>
  <cp:revision>74</cp:revision>
  <dc:subject/>
  <dc:title>Slide 1</dc:title>
</cp:coreProperties>
</file>